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F37-72B5-4546-A165-23E343F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475-9687-4AD6-B58F-5A9E934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A5A-16C3-4922-AF94-19DB19D2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1D4-2E6C-423A-B316-5502345C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E68-95F8-41FB-BA7C-3B41EF9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86B-30F8-425C-9A0C-17F81504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BD1-6854-437C-9CDF-19CFBB9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777-13E9-4182-9F0A-B6F2A390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374-F621-48E6-BE35-A41E1A07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85F-2737-4A05-8ADC-72D01EE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0E0-C1B7-454E-93C5-6DB3A16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0EC-0FBF-4637-8E17-64E3527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13E9-3575-4499-9BEC-B4563B9B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mass for Argon ( 39.9) is situated underneath the Chemical symbol (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10:17Z</dcterms:created>
  <dc:creator>Nael Nmair</dc:creator>
  <dc:description/>
  <dc:language>en-US</dc:language>
  <cp:lastModifiedBy>Nael Nmair</cp:lastModifiedBy>
  <dcterms:modified xsi:type="dcterms:W3CDTF">2008-02-24T16:10:23Z</dcterms:modified>
  <cp:revision>1</cp:revision>
  <dc:subject/>
  <dc:title>Slide 1</dc:title>
</cp:coreProperties>
</file>